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9305925" cy="7019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306000" cy="702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03236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270040" y="-360"/>
            <a:ext cx="4033800" cy="3510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898720" y="526680"/>
            <a:ext cx="3508560" cy="2631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667560"/>
            <a:ext cx="403236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27004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A1D96-7E74-410E-BAC8-72D2BD9B76F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FB3C6-B5FF-48CF-B125-44EFE22A91F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AA20-86D1-4AC7-BD15-935AF21D9B48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61A92-FA09-4096-9B1E-5A407A114F56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5C248-2AA7-4656-99FC-DCAB9189E76B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5064D-E7FC-4F4E-9B09-ECD4833252C4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D8BF7-544E-4374-82BA-C68105D5119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C0273-D875-4307-B850-11787D14239C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015FC-0D62-4B8C-AC52-876EE65A13AE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E7FFB-439E-4B0E-8F61-476546BB5BBA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9A328-0080-43F5-97CB-CD85EABB1EB0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650CC-52E8-4207-BAF7-88754ECAA983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2C43F-C3ED-43A6-9610-EB460CBF9C5F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91609-7025-4554-ACFA-201682E3D612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2898720" y="527040"/>
            <a:ext cx="3508560" cy="263196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30240" y="3333600"/>
            <a:ext cx="7445520" cy="31593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Nico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are here to show our interest in acquiring the west portion of Essex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Arial"/>
              </a:rPr>
              <a:t>We would like to give you an idea of who we are as a school board and as a schoo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5270400" y="6667560"/>
            <a:ext cx="403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5F3D9-7BF2-4324-A495-58D7DAD104C1}" type="slidenum">
              <a:rPr b="0" lang="fr-C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C54B-D434-49A2-B5EC-591E18CD0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589B-F678-42C0-B73B-3565E19EB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9B04A-7ED4-4CAA-9686-F1175716D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5F3C-7948-494D-832A-673280D24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4036F-E4A3-45DF-9748-70F21DC34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5281-2213-49FE-88A2-4D62D6A80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C701-5EC3-4AE8-9BCF-4BAE624DA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195-92AE-4CF1-912B-8961C5F06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4C5E-479C-4E3C-97CF-F75273AB3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9D02-6DE5-466C-9C0C-39BC5E52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B76-0D33-4A1C-9035-B21AAF726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8AFF-BADD-441C-9D41-29B566DFC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BF4A4-3B9D-4646-B1E2-C2281215EE01}" type="slidenum">
              <a:rPr b="0" lang="fr-C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C:\Documents and Settings\eguay\Bureau\art-nouveau\images\Low_rez\Générique.jpg"/>
          <p:cNvPicPr/>
          <p:nvPr/>
        </p:nvPicPr>
        <p:blipFill>
          <a:blip r:embed="rId1"/>
          <a:stretch/>
        </p:blipFill>
        <p:spPr>
          <a:xfrm>
            <a:off x="1116000" y="260280"/>
            <a:ext cx="6502320" cy="650232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Le CSDCCS et son engagement envers les nouveaux arrivant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C:\Documents and Settings\eguay\Bureau\base.jpg"/>
          <p:cNvPicPr/>
          <p:nvPr/>
        </p:nvPicPr>
        <p:blipFill>
          <a:blip r:embed="rId2"/>
          <a:stretch/>
        </p:blipFill>
        <p:spPr>
          <a:xfrm>
            <a:off x="0" y="5762520"/>
            <a:ext cx="916308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TÉÉ (Travailleurs en établissement dans les éco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2 sortes de modèles: En partenariat avec les organismes communautaires ou administrateur dir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Administrateur direct dans la région de Peel-Halton avec 2 TÉÉ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Vitia Buaba Z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ff"/>
                </a:solidFill>
                <a:uFillTx/>
                <a:latin typeface="Arial"/>
              </a:rPr>
              <a:t>vzam@csdccs.edu.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800" spc="-1" strike="noStrike">
                <a:solidFill>
                  <a:srgbClr val="92d050"/>
                </a:solidFill>
                <a:latin typeface="Arial"/>
              </a:rPr>
              <a:t>7316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Mélika Fonta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 u="sng">
                <a:solidFill>
                  <a:srgbClr val="ffffff"/>
                </a:solidFill>
                <a:uFillTx/>
                <a:latin typeface="Arial"/>
              </a:rPr>
              <a:t>mfontaine@csdccs.edu.on.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800" spc="-1" strike="noStrike">
                <a:solidFill>
                  <a:srgbClr val="92d050"/>
                </a:solidFill>
                <a:latin typeface="Arial"/>
              </a:rPr>
              <a:t>731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ex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gramme TÉÉ administré par les partenai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Toronto: Le Centre Francophon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urham: Le Conseil des organismes francophones de la région de Durham (COFR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Hamilton- Niagara: Le Centre de santé communautaire Hamilton-Nia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e CSDCCS souhaite voir le programme de TÉÉ dans toutes ses écoles sur tout le territoire qu’il desse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Exemples de partenariats communautaires avec entente formel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EP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entre Francophon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a Passerelle I.D.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DÉÉ 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llège Boré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NAFRIC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OF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SCH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OFIFR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En conclu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e CSDCCS vise le bon accueil et la bonne intégration des nouveaux arrivants à tous les niveaux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La réussite scolaire de l’enfant dépend de l’accueil et de l’accompagnement de toute la famil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En adoptant une culture interne ouverte à ces valeurs et en favorisant une collaboration étroite de tous les intervenants, le CSDCCS offre à ses élèves nouveaux arrivants de meilleures chances de réussir leur vie au Can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6000" spc="-1" strike="noStrike">
                <a:solidFill>
                  <a:srgbClr val="ffffff"/>
                </a:solidFill>
                <a:latin typeface="Arial"/>
              </a:rPr>
              <a:t>MERCI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55640" y="692280"/>
            <a:ext cx="7772400" cy="15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e Conseil scolaire de district catholique Centre-Sud (CSDCC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2204640"/>
            <a:ext cx="6400800" cy="328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e CSDCCS accueille plus de 14 500 élèves au sein de 42 écoles élémentaires et 9 écoles secondaires sur un territoire s’étendant de la péninsule du Niagara à Peterborough et du lac Ontario (Toronto) à la baie Georgienn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a mission du Conseil est d’offrir à l’élève une éducation de qualité dans un milieu de vie catholique et francophone où le respect de la personne, le sens d’appartenance à la collectivité franco-ontarienne, la promotion de l’excellence et l’équité sont des valeurs visibles et essentielles à son épanouissement</a:t>
            </a:r>
            <a:r>
              <a:rPr b="0" lang="fr-CA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Le siège social se trouve à Toron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INITIATIVES DU CSDC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Compte tenu de la tendance de l’immigration et suite à un nombre très élevé de nouveaux arrivants dans certaines écoles, le CSDCCS a identifié l’intégration des nouveaux arrivants comme étant une des priorités de son plan stratégique 2011-201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ffffff"/>
                </a:solidFill>
                <a:latin typeface="Arial"/>
              </a:rPr>
              <a:t>Modèle d’intervention</a:t>
            </a:r>
            <a:br>
              <a:rPr sz="24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inclut des stratégies provenant de </a:t>
            </a:r>
            <a:br>
              <a:rPr sz="2000"/>
            </a:br>
            <a:r>
              <a:rPr b="1" lang="fr-CA" sz="2000" spc="-1" strike="noStrike">
                <a:solidFill>
                  <a:srgbClr val="ffffff"/>
                </a:solidFill>
                <a:latin typeface="Arial"/>
              </a:rPr>
              <a:t>l’interne et de l’externe du CSDC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8" descr=""/>
          <p:cNvPicPr/>
          <p:nvPr/>
        </p:nvPicPr>
        <p:blipFill>
          <a:blip r:embed="rId2"/>
          <a:stretch/>
        </p:blipFill>
        <p:spPr>
          <a:xfrm>
            <a:off x="-168120" y="1341360"/>
            <a:ext cx="10356840" cy="46800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PANA (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Programme d’appui aux nouveaux arrivants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Un programme qui facilite l’intégration scolaire et socio-culturelle des élèves nouveaux arrivants et permet de les familiariser avec leur nouveau milieu scolaire. Un accompagnement au niveau académiqu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Toujours à l’affût de nouvelles initiatives et res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ALF (</a:t>
            </a:r>
            <a:r>
              <a:rPr b="0" lang="fr-CA" sz="1800" spc="-1" strike="noStrike">
                <a:solidFill>
                  <a:srgbClr val="ffffff"/>
                </a:solidFill>
                <a:latin typeface="Arial"/>
              </a:rPr>
              <a:t>Actualisation linguistique du français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Liaison communautair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ffffff"/>
                </a:solidFill>
                <a:latin typeface="Arial"/>
              </a:rPr>
              <a:t>Partenariats communautaires et projets communautaires avec les éco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ffff"/>
                </a:solidFill>
                <a:latin typeface="Arial"/>
              </a:rPr>
              <a:t>3 agents de liaison communautaire</a:t>
            </a: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Régions de Toronto-Durha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Adolphine Mukama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"/>
              </a:rPr>
              <a:t>amukamanzi@csdccs.edu.on.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400" spc="-1" strike="noStrike">
                <a:solidFill>
                  <a:srgbClr val="92d050"/>
                </a:solidFill>
                <a:latin typeface="Arial"/>
              </a:rPr>
              <a:t>731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fr-CA" sz="2400" spc="-1" strike="noStrike">
                <a:solidFill>
                  <a:srgbClr val="ffffff"/>
                </a:solidFill>
                <a:latin typeface="Arial"/>
              </a:rPr>
              <a:t>Régions de Peel-Halton, Kitchener-Waterlo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Marie-Pierre Dao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 u="sng">
                <a:solidFill>
                  <a:srgbClr val="ffffff"/>
                </a:solidFill>
                <a:uFillTx/>
                <a:latin typeface="Arial"/>
              </a:rPr>
              <a:t>mdaoust@csdccs.edu.on.ca</a:t>
            </a:r>
            <a:r>
              <a:rPr b="1" lang="fr-C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2400" spc="-1" strike="noStrike">
                <a:solidFill>
                  <a:srgbClr val="92d050"/>
                </a:solidFill>
                <a:latin typeface="Arial"/>
              </a:rPr>
              <a:t>731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Arial"/>
              </a:rPr>
              <a:t>À l’inter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3 agents de liaison communautai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Régions de Hamilton-Niaga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ffffff"/>
                </a:solidFill>
                <a:latin typeface="Arial"/>
              </a:rPr>
              <a:t>Franklin Leuk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 u="sng">
                <a:solidFill>
                  <a:srgbClr val="ffffff"/>
                </a:solidFill>
                <a:uFillTx/>
                <a:latin typeface="Arial"/>
              </a:rPr>
              <a:t>fleukam@csdccs.edu.on.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2d050"/>
                </a:solidFill>
                <a:latin typeface="Arial"/>
              </a:rPr>
              <a:t>1 800 274 3764, poste </a:t>
            </a:r>
            <a:r>
              <a:rPr b="1" lang="fr-CA" sz="3200" spc="-1" strike="noStrike">
                <a:solidFill>
                  <a:srgbClr val="92d050"/>
                </a:solidFill>
                <a:latin typeface="Arial"/>
              </a:rPr>
              <a:t>71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ojet P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Financé par le ministère de l’Éducation de l’Onta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Différentes activités en lien avec l’intégration des nouveaux arriva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ession d’information aux parents et leaders communautaires sur les études secondaires et post secondaires à l’école Mgr-de-Charbon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Projet familles en mouvement à Hamilt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5" descr="C:\Documents and Settings\eguay\Bureau\Untitled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ffffff"/>
                </a:solidFill>
                <a:latin typeface="Arial"/>
              </a:rPr>
              <a:t>Projet PIVO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mp d’été à Toronto avec La Passerelle I.D.É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Camp d’été à Hamilton avec CANAFRIC Théât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ffffff"/>
                </a:solidFill>
                <a:latin typeface="Arial"/>
              </a:rPr>
              <a:t>Sortie des parents à l’île de Toro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18:29:08Z</dcterms:created>
  <dc:creator>CSDCCS</dc:creator>
  <dc:description/>
  <dc:language>en-US</dc:language>
  <cp:lastModifiedBy>TPL</cp:lastModifiedBy>
  <cp:lastPrinted>2013-05-29T17:37:28Z</cp:lastPrinted>
  <dcterms:modified xsi:type="dcterms:W3CDTF">2013-05-26T05:08:10Z</dcterms:modified>
  <cp:revision>90</cp:revision>
  <dc:subject/>
  <dc:title>Diapositive 1</dc:title>
</cp:coreProperties>
</file>